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EDD-570A-4838-8C9E-6CABD84C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018-6C8D-4C38-B951-DFF6ACF9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A18-A657-4471-B007-14114B8C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087-D582-43C3-9A48-0D9D5F94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3C7-AA29-43B4-97F1-DB810C72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2B0-B82F-4906-9E89-A4574ED3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F8F-C65F-4FF3-9841-1F09B649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0E4-B846-42FD-B43D-A86CE56F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2F4-9EF8-4094-8504-D800636A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6FF-CEA4-4464-96FF-D19025C8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E70-DB02-4D67-ADB9-95D3BAD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DB9-A81B-4FBB-9948-6A99556A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B5E8-3F32-479D-A498-B50CAEE1F6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zomszéd Isko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. dec. 6. 19 ó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192240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462800" y="108000"/>
            <a:ext cx="1572840" cy="1800000"/>
            <a:chOff x="7462800" y="108000"/>
            <a:chExt cx="1572840" cy="18000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462800" y="108000"/>
              <a:ext cx="157248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7463160" y="988200"/>
              <a:ext cx="1572480" cy="91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Fejet Len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ár azt hallottam, nagyon igyekszel, nem mennek olyan jól a dolgok. Talán azért, mert szétszórt va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óbálj meg néh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djuk –  óránként egyszer, pár percre megállni, és átgondolni, mit akartál az elmúlt órában csinálni és mi a célod a következő órá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81680" y="950760"/>
            <a:ext cx="392400" cy="452520"/>
            <a:chOff x="6781680" y="950760"/>
            <a:chExt cx="392400" cy="4525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9240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2880"/>
              <a:ext cx="392040" cy="23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53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6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6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7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7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8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8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8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9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9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96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Mik Rob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tív vagy, minden közösségi programban részt veszel, dolgozol az iskolai önkormányzatban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igyázz, hogy mindenre, még alvásra is megfelelő mennyiségű időd juss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781680" y="950760"/>
            <a:ext cx="389160" cy="448560"/>
            <a:chOff x="6781680" y="950760"/>
            <a:chExt cx="389160" cy="4485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891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0720"/>
              <a:ext cx="3888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104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1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11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11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1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1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13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14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25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8:42:05Z</dcterms:created>
  <dc:creator/>
  <dc:description/>
  <dc:language>en-US</dc:language>
  <cp:lastModifiedBy>OKÉV</cp:lastModifiedBy>
  <dcterms:modified xsi:type="dcterms:W3CDTF">2005-08-17T20:29:03Z</dcterms:modified>
  <cp:revision>20</cp:revision>
  <dc:subject/>
  <dc:title>Szomszéd Iskola</dc:title>
</cp:coreProperties>
</file>