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3765-3226-49D6-A1B3-02F77BF63A33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696-AD00-4B12-AF29-BD07DB0FA304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1C0-9635-46D1-930C-0A9E85DCF7FA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C29-DFD3-42B3-A1FE-1B33D3F6E383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7FC-EC6C-472D-8121-9FE85A14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6EC-47AF-4295-B609-522C6FBA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360-42D0-4DBA-AA4B-5F93144A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E10-848E-438B-A467-B04D918E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B46-B3B4-4EC3-8564-20FBAAA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D77-A590-471F-A323-CC94D2EE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370-2454-4B0F-8819-D6933218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577-4BD1-4060-B937-17D2156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F23-EA8A-47D9-BE2E-73501D2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398-B938-45CA-8D52-6A3306A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A63-1603-46C1-ADC4-FC9C2F9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F79-F093-43C9-AD25-A9F3FA8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F63-730F-477D-AE2C-BF927C835575}" type="datetime">
              <a:rPr b="0" lang="hu-HU" sz="1200" spc="-1" strike="noStrike">
                <a:solidFill>
                  <a:srgbClr val="fbfbaa"/>
                </a:solidFill>
                <a:latin typeface="Arial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FCE-485F-49AA-87BC-A77EE4863D13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Tények a tojásról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bfbaa"/>
              </a:solidFill>
              <a:latin typeface="Arial"/>
            </a:endParaRPr>
          </a:p>
        </p:txBody>
      </p:sp>
      <p:sp>
        <p:nvSpPr>
          <p:cNvPr id="5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7600-F208-4622-B383-58BC5C9D3279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1" name="Kép 4" descr="hej.png"/>
          <p:cNvPicPr/>
          <p:nvPr/>
        </p:nvPicPr>
        <p:blipFill>
          <a:blip r:embed="rId1"/>
          <a:stretch/>
        </p:blipFill>
        <p:spPr>
          <a:xfrm>
            <a:off x="758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2" name="Kép 5" descr="hej.png"/>
          <p:cNvPicPr/>
          <p:nvPr/>
        </p:nvPicPr>
        <p:blipFill>
          <a:blip r:embed="rId2"/>
          <a:stretch/>
        </p:blipFill>
        <p:spPr>
          <a:xfrm>
            <a:off x="2855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3" name="Kép 6" descr="hej.png"/>
          <p:cNvPicPr/>
          <p:nvPr/>
        </p:nvPicPr>
        <p:blipFill>
          <a:blip r:embed="rId3"/>
          <a:stretch/>
        </p:blipFill>
        <p:spPr>
          <a:xfrm>
            <a:off x="495144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Kép 7" descr="hej.png"/>
          <p:cNvPicPr/>
          <p:nvPr/>
        </p:nvPicPr>
        <p:blipFill>
          <a:blip r:embed="rId4"/>
          <a:stretch/>
        </p:blipFill>
        <p:spPr>
          <a:xfrm>
            <a:off x="7048440" y="4214880"/>
            <a:ext cx="1336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4" descr="hej.png"/>
          <p:cNvPicPr/>
          <p:nvPr/>
        </p:nvPicPr>
        <p:blipFill>
          <a:blip r:embed="rId1"/>
          <a:stretch/>
        </p:blipFill>
        <p:spPr>
          <a:xfrm>
            <a:off x="214200" y="228600"/>
            <a:ext cx="475452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7" name="Tartalom helye 3" descr="feherje.png"/>
          <p:cNvPicPr/>
          <p:nvPr/>
        </p:nvPicPr>
        <p:blipFill>
          <a:blip r:embed="rId2"/>
          <a:stretch/>
        </p:blipFill>
        <p:spPr>
          <a:xfrm>
            <a:off x="328680" y="343080"/>
            <a:ext cx="452592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Kép 5" descr="sargaja.png"/>
          <p:cNvPicPr/>
          <p:nvPr/>
        </p:nvPicPr>
        <p:blipFill>
          <a:blip r:embed="rId3"/>
          <a:stretch/>
        </p:blipFill>
        <p:spPr>
          <a:xfrm>
            <a:off x="1357200" y="2500200"/>
            <a:ext cx="2652840" cy="2652840"/>
          </a:xfrm>
          <a:prstGeom prst="rect">
            <a:avLst/>
          </a:prstGeom>
          <a:ln w="0">
            <a:noFill/>
          </a:ln>
        </p:spPr>
      </p:pic>
      <p:sp>
        <p:nvSpPr>
          <p:cNvPr id="59" name="Téglalap feliratnak 6"/>
          <p:cNvSpPr/>
          <p:nvPr/>
        </p:nvSpPr>
        <p:spPr>
          <a:xfrm>
            <a:off x="5286240" y="1214280"/>
            <a:ext cx="2880000" cy="1079640"/>
          </a:xfrm>
          <a:prstGeom prst="wedgeRectCallout">
            <a:avLst>
              <a:gd name="adj1" fmla="val -82819"/>
              <a:gd name="adj2" fmla="val -13097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Mészhéj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0" name="Téglalap feliratnak 7"/>
          <p:cNvSpPr/>
          <p:nvPr/>
        </p:nvSpPr>
        <p:spPr>
          <a:xfrm>
            <a:off x="5357880" y="3000240"/>
            <a:ext cx="2879640" cy="1079640"/>
          </a:xfrm>
          <a:prstGeom prst="wedgeRectCallout">
            <a:avLst>
              <a:gd name="adj1" fmla="val -95671"/>
              <a:gd name="adj2" fmla="val -19143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Fehérje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1" name="Téglalap feliratnak 8"/>
          <p:cNvSpPr/>
          <p:nvPr/>
        </p:nvSpPr>
        <p:spPr>
          <a:xfrm>
            <a:off x="5429160" y="5143680"/>
            <a:ext cx="2879640" cy="1079280"/>
          </a:xfrm>
          <a:prstGeom prst="wedgeRectCallout">
            <a:avLst>
              <a:gd name="adj1" fmla="val -123263"/>
              <a:gd name="adj2" fmla="val -135055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Sárgája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2" name="Dia számának hely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9CD9-66E5-452F-A2F7-9DF690333872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274320"/>
            <a:ext cx="864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Az átlagos tyúktojás összetétele: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139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Tápanyag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Vitamin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Ásványi anyag 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5,4 gramm fehérje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4,8 gramm zsí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0,3 gramm szénhidrát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A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D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E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B-vitaminok,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l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pantotén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szfo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vas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cink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alc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ál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nátr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szelén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magnéz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87E9-6DDC-451D-A13F-0A0E72979AA2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8:44:31Z</dcterms:created>
  <dc:creator>OH</dc:creator>
  <dc:description/>
  <dc:language>en-US</dc:language>
  <cp:lastModifiedBy>Oktatási Hivatal</cp:lastModifiedBy>
  <dcterms:modified xsi:type="dcterms:W3CDTF">2009-01-20T20:26:55Z</dcterms:modified>
  <cp:revision>17</cp:revision>
  <dc:subject/>
  <dc:title>1. dia</dc:title>
</cp:coreProperties>
</file>