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3D0-747A-42B8-A82C-D9410E5B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F66-45C5-40EF-930F-A06DD147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D0B-8689-46D5-B1CE-57FBAB43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0FA-1C7C-4A6C-8B1C-D5823E07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0A5-CF26-4DC1-9F76-AB33750C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D03-76ED-4D90-9A14-4F384560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F18-3AA5-41C7-8C86-C7301F6F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806-DFFB-42ED-BB0F-F7A98C92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FDC-DB37-486E-834B-FBF8C513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7F9-7DE9-4FB8-8995-15546A36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E90-2547-4D33-8927-FF27602D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6E2-5627-4B72-B6E8-7203D48F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CF39-1194-465D-9946-8A5289C78DF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 Light"/>
              </a:rPr>
              <a:t>Macskánk születet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2311560"/>
          <a:ext cx="8128080" cy="296676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scicánk tömege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étf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e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ütörtö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n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omb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sárn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0T20:54:14Z</dcterms:created>
  <dc:creator/>
  <dc:description/>
  <dc:language>en-US</dc:language>
  <cp:lastModifiedBy/>
  <dcterms:modified xsi:type="dcterms:W3CDTF">2020-12-10T20:54:22Z</dcterms:modified>
  <cp:revision>1</cp:revision>
  <dc:subject/>
  <dc:title/>
</cp:coreProperties>
</file>